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8.wmf" ContentType="image/x-wmf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2E08-F02B-4AC0-A865-85852D86E2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6534-E0D4-4579-A610-99A9F5F409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231-FC49-43EE-8C80-E1DB3996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32D-E519-4DA1-AE0A-980DB53C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7ED09-E685-412F-9372-0247A9FF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FE085-F386-4A17-8614-B93B57BC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6AD89-2CA6-4FC4-832A-2C0136C6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4EBEA-F488-43F1-ADC5-2381C469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B0B0F-6D23-4CD2-BD65-EF8C147C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CA3B2-1316-4CC5-8815-630623F7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D7B2E-33F4-41DE-B4C1-D97BE60A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75DE7-1EF0-4DD5-A3FD-E272EBF1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D7A3B-9BB6-4511-987C-F0DA0D9E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9A5C7-CE03-4C48-B57E-5FE663C0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02B-0BB5-43F3-885C-76F1E165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76346-82DB-474B-8F70-78598ED5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930C0-C087-4E94-A083-FB51FAF6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97BCA-728C-451B-9ADD-7967FEC3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E753C-F703-4F11-9361-ECCBE19F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D759A-E029-4E57-AEEB-8F7B3C81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9836A-7589-44D9-BA9E-C33FD0C8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94F33-90A0-4F87-823F-6A6AB7AB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61B0E-33E0-4AA4-AA31-05EE5507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900F5-0C80-421C-9A70-32E9B8DA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7A162-BE66-49FE-A702-D6A654E3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A23-9421-4627-9B59-F5910847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28BBE-E647-431E-AC1D-0FC6408B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CA9E5-1533-434A-B7ED-FB20C3F0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F1E0C-9FFC-4D72-AE16-8E9982DF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34C2E-3DFE-4452-BA4C-9506D7FA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EAF89-03C2-4F9A-82F4-5F88EED3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57E50-57F3-4DA9-8497-707488D2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5B83E-2D03-4FE7-AB9C-6398F8B3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68C45-97F0-4B59-871E-C98A5958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46D3C-BC4F-4126-8A42-183D7F1F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BEBE6-85CD-4A39-9570-E0AB62EE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8F6F-ACA0-4DAF-A382-016FB2C0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A3A8D-C8D2-43FE-BB70-75BE670B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B84C3-97D8-45E8-A08D-28B44ED9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59C53-8A3F-4225-8213-5D6A3D1F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441AD-77D9-4B69-9F2C-F2E60E04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771DE-43B0-4EFB-B07D-0E1505D0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9900E-A0B3-42E4-AF55-88A92E52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79E18-3E3C-4477-96AB-9C3B3B80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A83FF-E7A0-4DBE-9A90-49821372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6130D-2FDA-4778-B693-726060D2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A50F0-4634-4790-9563-6494638B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39A1-127D-42E6-9131-B716AA8A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D7E1D-81EC-4FEE-8C73-C53E7291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3911D-B5DA-48E8-8375-C0563BD0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DACAB-4A8E-47DB-9318-34A167CE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47740-A23F-4BD6-955D-031E802B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C08A0-6A02-4B10-9CE1-0B15DD68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3D0C-CB13-4A89-A2B4-C25544F2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BCC7-5C3F-4296-A998-2FB22743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B4CA-54B0-4C32-A914-AE4CA5B3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B82C-F1F9-4213-B810-66CCD723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3FEF-381A-4334-A1DA-BB992D55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C88-6B0F-4A70-885B-4B6B8C3C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F494-7A4C-4B76-8E0F-FC3D6EAD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0132-FB03-4FAD-A68F-C56DABD6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5F9A-7626-4216-9D60-A83EB74F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A1D6-9EF3-4EE5-9061-3FA41682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8F48-137B-42C0-A945-05DA3446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E621-C533-4A0A-A484-1C30FF1C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03F93-8D75-43B7-BBB3-C432299D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9FF16-EBDB-43D8-8DE0-91C296EF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644E8-928A-4027-B80B-A8768A75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FEBB8-E448-4F2C-AD4B-7BBF8660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BFB-5A20-4A11-83B0-B23F1E0D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02D2-3D73-403A-8FFD-C7E292B3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3D05B-C212-49DE-9C7C-A32DC349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3F457-945F-4BDC-9996-D7F0E111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270A8-0C89-4CC1-8A54-B7B67F05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C8BA4-0AED-44CB-8C66-CB37F3FF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5DE0-FD95-4EC7-A7DA-0657A4C5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F0C6-9C8B-4983-93C1-8564208E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5592C-378D-4EEF-980E-6017ECB3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FF516-EF00-46E5-9EE7-A71645B2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8A356-C852-4BDD-9E76-56C52378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A44-5CCE-47CF-9549-852EDBD5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FC756-C81E-4D12-A5FA-473DA07B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FB520-BBB8-4755-AD52-8BDEE228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DDB08-5E12-421C-B998-F915FF08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C1BE1-74E1-4B24-A1DC-C8D00D7C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75CAF-D32B-497E-8514-70E47DE5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7193E-A665-4496-9D16-15A594F7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9DAFC-6DFD-4C66-B3FC-7DA702EE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38E93-2635-4313-A0FB-37EA061D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B9E12-8F63-4460-9AE5-E5D6C542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0CD7D-FE1E-44F0-A63A-5831A372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260-2AE0-4CC1-B5B6-8E80FF07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F7AC5-6267-4908-A195-469404C0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13BF8-9B57-4BE6-B9DE-97387F23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062E-D04E-45A8-980A-024BAC9A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41F50-CE95-404D-923B-E33621A4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4F1A7-CB12-4B27-A1AE-A20C296C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85136-705D-420F-8B06-ADF1FD30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1C04-4EB2-4210-98A6-5A543215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566A0-835A-4B83-BFE7-2C30A468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D89AD-986C-498C-813D-3EE702EE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72743-039E-43B6-BDC4-DC394DBA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61C-9030-4E87-AC6D-10E5D5DE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5C075-D200-42FF-8EB7-6FE33785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A1570-E7FC-400C-9CC9-22FC3C88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B53D9-3025-4609-B62F-47FF6EA8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2D17A-749C-462D-AB97-A2F9C338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0C673-4005-49C3-B53C-E5733A4C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9C7B6-0229-49D0-94DC-D2BD96A4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12545-8E0A-4444-9AF2-30C0FEA4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134AB-4ECA-4339-9B67-28ABE8DE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24712-91CB-4659-8CB2-4B36B7DB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C4116-E892-4F1D-B28E-A05A9C41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5DC-2E08-4571-9469-DDA42D1D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6A2BD-7BA7-4087-842C-B55C6BBD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208B6-7785-458C-8A15-DD062160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E7A99-6366-4B11-914E-870239D2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267BB-75BD-417D-A05C-40491AB1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254E8-2C20-4D82-95F6-5643CD8E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C3C02-9282-49A6-95C0-0ACD0019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5AC10-DEFB-4575-A37C-03445AEB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BD2D0-9F29-45E2-BF43-BF5AB46D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19CD2-3128-40F8-843D-E958E943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514D3-B439-41C8-AB31-F2EF7812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590-5273-4C45-BBF2-15E2981F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0C90C-833F-4826-A9A5-AF987A12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B90A2-7017-4E35-B91C-CC2C06AC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254BF-6286-452A-858B-A773A263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DB631-1A29-4214-9A93-5C0E7166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DA33E-730E-411F-B05F-FE999619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A30D8-2DA8-4685-AE65-149D2982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84744-4832-4357-B6F4-FA1971EA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9B105-6A08-48B2-BB7E-789D660A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7EDEE-67D2-4BB1-9ED0-38F17B96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7FA3C-6DEC-4F28-AEAE-8FA81132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AEC-1D43-4D93-AE1F-07F787DD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CCB46-571C-46AB-AECF-163A0180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59036-67C1-48B9-9CF4-C36A2979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FA23F-68D4-4BDE-82DE-3B638CC7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C83AA-B9F9-43D6-A0B9-FAFC3947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725CA-CE72-4367-B0F7-2FB06A3D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F3B04-2E6D-4C16-AEA0-D101FC81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C4415-EF95-457A-8B37-53A22AE4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223D3-CFE6-46EF-A371-325CADBE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DAF70-39CE-4B59-9D8F-0D0297E3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D630C-837A-48FE-A752-D65F5CF4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1691-7036-411E-821D-C5A9247A35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18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0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1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195C-628B-4569-861A-380FA9C8BB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7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9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660E-0A0D-4788-8D13-5EDCA8C6B4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1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F4E2-E834-43CD-9C98-6EDC99CD6B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D786-4F14-4848-9807-5C74AEF58CA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E250-0A90-43D9-B374-BE9382B98E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9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6ECA-D760-4B7A-AAAB-0F8CEBE158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CA75-87FB-45EA-A05B-5121F8A66F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7134-10B8-495A-A037-2C1FDD4775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157D-62B7-45BC-BF78-32D6CAD4AB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35BB-3F2B-4F64-A8D7-C1522D497F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8A32-D05F-4783-8B17-8CF06A10AC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Rectangle 2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8021880" cy="498024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924360" y="5950080"/>
            <a:ext cx="507528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10944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Составитель: Львова Т.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900000" y="2491920"/>
            <a:ext cx="74916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казать, что затраты, связанные с выполнением дипломного проекта, могут быть покрыты доходами от реализации  созданного программного продукт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Багетная рамка 1"/>
          <p:cNvSpPr/>
          <p:nvPr/>
        </p:nvSpPr>
        <p:spPr>
          <a:xfrm>
            <a:off x="1042920" y="549360"/>
            <a:ext cx="7274160" cy="1584360"/>
          </a:xfrm>
          <a:prstGeom prst="bevel">
            <a:avLst>
              <a:gd name="adj" fmla="val 12500"/>
            </a:avLst>
          </a:pr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Цель экономической части дипломного прое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4" descr="C:\Program Files\Microsoft Office\MEDIA\CAGCAT10\j0149481.wmf"/>
          <p:cNvPicPr/>
          <p:nvPr/>
        </p:nvPicPr>
        <p:blipFill>
          <a:blip r:embed="rId1"/>
          <a:stretch/>
        </p:blipFill>
        <p:spPr>
          <a:xfrm>
            <a:off x="6875640" y="4797360"/>
            <a:ext cx="2052360" cy="1868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900000" y="1773360"/>
            <a:ext cx="7994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roadway"/>
              </a:rPr>
              <a:t>анализ и оценка существующих аналогичных программных продуктов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roadway"/>
              </a:rPr>
              <a:t>определение  конкурентоспособности и целесообразности использования созданного программного продукта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roadway"/>
              </a:rPr>
              <a:t>расчет  экономической эффективности, полученной при возможном использовании программного продукта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1" name="Rectangle 2" descr=""/>
          <p:cNvPicPr/>
          <p:nvPr/>
        </p:nvPicPr>
        <p:blipFill>
          <a:blip r:embed="rId1"/>
          <a:stretch/>
        </p:blipFill>
        <p:spPr>
          <a:xfrm>
            <a:off x="969840" y="0"/>
            <a:ext cx="7448760" cy="21272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6" descr="444"/>
          <p:cNvPicPr/>
          <p:nvPr/>
        </p:nvPicPr>
        <p:blipFill>
          <a:blip r:embed="rId2"/>
          <a:stretch/>
        </p:blipFill>
        <p:spPr>
          <a:xfrm>
            <a:off x="6546960" y="5016600"/>
            <a:ext cx="2865240" cy="2122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Багетная рамка 3"/>
          <p:cNvSpPr/>
          <p:nvPr/>
        </p:nvSpPr>
        <p:spPr>
          <a:xfrm>
            <a:off x="2340000" y="404640"/>
            <a:ext cx="4248000" cy="1224000"/>
          </a:xfrm>
          <a:prstGeom prst="bevel">
            <a:avLst>
              <a:gd name="adj" fmla="val 12500"/>
            </a:avLst>
          </a:pr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Экономическая часть дипломного проект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Скругленный прямоугольник 5"/>
          <p:cNvSpPr/>
          <p:nvPr/>
        </p:nvSpPr>
        <p:spPr>
          <a:xfrm>
            <a:off x="5651640" y="2492280"/>
            <a:ext cx="324144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Расчет затрат по созданному программному продукт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Скругленный прямоугольник 7"/>
          <p:cNvSpPr/>
          <p:nvPr/>
        </p:nvSpPr>
        <p:spPr>
          <a:xfrm>
            <a:off x="324000" y="2492280"/>
            <a:ext cx="324000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Организационно-экономическое  обоснование проек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Скругленный прямоугольник 8"/>
          <p:cNvSpPr/>
          <p:nvPr/>
        </p:nvSpPr>
        <p:spPr>
          <a:xfrm>
            <a:off x="2627280" y="4292640"/>
            <a:ext cx="345744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Расчет экономического эффекта от использования 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Стрелка вправо 12"/>
          <p:cNvSpPr/>
          <p:nvPr/>
        </p:nvSpPr>
        <p:spPr>
          <a:xfrm rot="5400000">
            <a:off x="3056040" y="2567520"/>
            <a:ext cx="266400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Стрелка углом 17"/>
          <p:cNvSpPr/>
          <p:nvPr/>
        </p:nvSpPr>
        <p:spPr>
          <a:xfrm rot="5400000">
            <a:off x="6315480" y="1180080"/>
            <a:ext cx="1552680" cy="1008360"/>
          </a:xfrm>
          <a:custGeom>
            <a:avLst/>
            <a:gdLst/>
            <a:ahLst/>
            <a:rect l="l" t="t" r="r" b="b"/>
            <a:pathLst>
              <a:path w="1552575" h="1008063">
                <a:moveTo>
                  <a:pt x="0" y="1008063"/>
                </a:moveTo>
                <a:lnTo>
                  <a:pt x="0" y="708759"/>
                </a:lnTo>
                <a:cubicBezTo>
                  <a:pt x="0" y="450037"/>
                  <a:pt x="209735" y="240302"/>
                  <a:pt x="468457" y="240302"/>
                </a:cubicBezTo>
                <a:lnTo>
                  <a:pt x="1300559" y="240302"/>
                </a:lnTo>
                <a:lnTo>
                  <a:pt x="1300559" y="0"/>
                </a:lnTo>
                <a:lnTo>
                  <a:pt x="1552575" y="366310"/>
                </a:lnTo>
                <a:lnTo>
                  <a:pt x="1300559" y="732620"/>
                </a:lnTo>
                <a:lnTo>
                  <a:pt x="1300559" y="492318"/>
                </a:lnTo>
                <a:lnTo>
                  <a:pt x="468457" y="492318"/>
                </a:lnTo>
                <a:cubicBezTo>
                  <a:pt x="348920" y="492318"/>
                  <a:pt x="252016" y="589222"/>
                  <a:pt x="252016" y="708759"/>
                </a:cubicBezTo>
                <a:lnTo>
                  <a:pt x="252016" y="1008063"/>
                </a:lnTo>
                <a:lnTo>
                  <a:pt x="0" y="1008063"/>
                </a:lnTo>
                <a:close/>
              </a:path>
            </a:pathLst>
          </a:custGeom>
          <a:solidFill>
            <a:srgbClr val="f2fb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Стрелка углом 19"/>
          <p:cNvSpPr/>
          <p:nvPr/>
        </p:nvSpPr>
        <p:spPr>
          <a:xfrm flipV="1" rot="5400000">
            <a:off x="1127880" y="1255320"/>
            <a:ext cx="1560600" cy="863640"/>
          </a:xfrm>
          <a:custGeom>
            <a:avLst/>
            <a:gdLst/>
            <a:ahLst/>
            <a:rect l="l" t="t" r="r" b="b"/>
            <a:pathLst>
              <a:path w="1560513" h="863600">
                <a:moveTo>
                  <a:pt x="0" y="863600"/>
                </a:moveTo>
                <a:lnTo>
                  <a:pt x="0" y="607189"/>
                </a:lnTo>
                <a:cubicBezTo>
                  <a:pt x="0" y="385544"/>
                  <a:pt x="179679" y="205865"/>
                  <a:pt x="401324" y="205865"/>
                </a:cubicBezTo>
                <a:lnTo>
                  <a:pt x="1344613" y="205865"/>
                </a:lnTo>
                <a:lnTo>
                  <a:pt x="1344613" y="0"/>
                </a:lnTo>
                <a:lnTo>
                  <a:pt x="1560513" y="313815"/>
                </a:lnTo>
                <a:lnTo>
                  <a:pt x="1344613" y="627630"/>
                </a:lnTo>
                <a:lnTo>
                  <a:pt x="1344613" y="421765"/>
                </a:lnTo>
                <a:lnTo>
                  <a:pt x="401324" y="421765"/>
                </a:lnTo>
                <a:cubicBezTo>
                  <a:pt x="298917" y="421765"/>
                  <a:pt x="215900" y="504782"/>
                  <a:pt x="215900" y="607189"/>
                </a:cubicBezTo>
                <a:lnTo>
                  <a:pt x="215900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2fb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Управляющая кнопка: назад 8">
            <a:hlinkClick r:id="" action="ppaction://hlinkshowjump?jump=lastslide"/>
          </p:cNvPr>
          <p:cNvSpPr/>
          <p:nvPr/>
        </p:nvSpPr>
        <p:spPr>
          <a:xfrm>
            <a:off x="1081080" y="5624640"/>
            <a:ext cx="863640" cy="64764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2da2bf"/>
          </a:solidFill>
          <a:ln w="1260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1116000" y="1915920"/>
            <a:ext cx="7491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явление круга потребителей созданного программного продукт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нализ конкурентных программных продукт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р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83" name="Управляющая кнопка: назад 1"/>
          <p:cNvSpPr/>
          <p:nvPr/>
        </p:nvSpPr>
        <p:spPr>
          <a:xfrm>
            <a:off x="1403280" y="566100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2da2bf"/>
          </a:solidFill>
          <a:ln w="1260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755640" y="1844640"/>
            <a:ext cx="7491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ебестоимость – сумма всех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затрат при создании программного продукт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5" name="Rectangle 2" descr=""/>
          <p:cNvPicPr/>
          <p:nvPr/>
        </p:nvPicPr>
        <p:blipFill>
          <a:blip r:embed="rId1"/>
          <a:stretch/>
        </p:blipFill>
        <p:spPr>
          <a:xfrm>
            <a:off x="822240" y="476280"/>
            <a:ext cx="7516800" cy="1328760"/>
          </a:xfrm>
          <a:prstGeom prst="rect">
            <a:avLst/>
          </a:prstGeom>
          <a:ln w="0">
            <a:noFill/>
          </a:ln>
        </p:spPr>
      </p:pic>
      <p:sp>
        <p:nvSpPr>
          <p:cNvPr id="586" name="Управляющая кнопка: назад 1"/>
          <p:cNvSpPr/>
          <p:nvPr/>
        </p:nvSpPr>
        <p:spPr>
          <a:xfrm>
            <a:off x="1403280" y="5589720"/>
            <a:ext cx="792360" cy="57600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708" h="21600">
                <a:moveTo>
                  <a:pt x="0" y="0"/>
                </a:moveTo>
                <a:lnTo>
                  <a:pt x="29708" y="0"/>
                </a:lnTo>
                <a:lnTo>
                  <a:pt x="29708" y="21600"/>
                </a:lnTo>
                <a:lnTo>
                  <a:pt x="0" y="21600"/>
                </a:lnTo>
                <a:close/>
              </a:path>
              <a:path fill="lightenLess" w="29708" h="21600">
                <a:moveTo>
                  <a:pt x="0" y="0"/>
                </a:moveTo>
                <a:lnTo>
                  <a:pt x="29708" y="0"/>
                </a:lnTo>
                <a:lnTo>
                  <a:pt x="28308" y="1400"/>
                </a:lnTo>
                <a:lnTo>
                  <a:pt x="1400" y="1400"/>
                </a:lnTo>
                <a:close/>
              </a:path>
              <a:path fill="darken" w="29708" h="21600">
                <a:moveTo>
                  <a:pt x="29708" y="0"/>
                </a:moveTo>
                <a:lnTo>
                  <a:pt x="29708" y="21600"/>
                </a:lnTo>
                <a:lnTo>
                  <a:pt x="28308" y="20200"/>
                </a:lnTo>
                <a:lnTo>
                  <a:pt x="28308" y="1400"/>
                </a:lnTo>
                <a:close/>
              </a:path>
              <a:path fill="darkenLess" w="29708" h="21600">
                <a:moveTo>
                  <a:pt x="29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8" y="20200"/>
                </a:lnTo>
                <a:close/>
              </a:path>
              <a:path fill="lighten" w="29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8" h="21600">
                <a:moveTo>
                  <a:pt x="7848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</a:pathLst>
          </a:custGeom>
          <a:solidFill>
            <a:srgbClr val="2da2bf"/>
          </a:solidFill>
          <a:ln w="1260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7" descr="doc_832_04"/>
          <p:cNvPicPr/>
          <p:nvPr/>
        </p:nvPicPr>
        <p:blipFill>
          <a:blip r:embed="rId2"/>
          <a:stretch/>
        </p:blipFill>
        <p:spPr>
          <a:xfrm>
            <a:off x="5651640" y="3355920"/>
            <a:ext cx="2770200" cy="2770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900000" y="2781360"/>
            <a:ext cx="749160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кономический эффект = Прибыль= Затраты – Дохо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р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9" name="Rectangle 2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015400" cy="1616040"/>
          </a:xfrm>
          <a:prstGeom prst="rect">
            <a:avLst/>
          </a:prstGeom>
          <a:ln w="0">
            <a:noFill/>
          </a:ln>
        </p:spPr>
      </p:pic>
      <p:sp>
        <p:nvSpPr>
          <p:cNvPr id="590" name="Управляющая кнопка: назад 1"/>
          <p:cNvSpPr/>
          <p:nvPr/>
        </p:nvSpPr>
        <p:spPr>
          <a:xfrm>
            <a:off x="2195640" y="5805360"/>
            <a:ext cx="863640" cy="64800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8784" h="21600">
                <a:moveTo>
                  <a:pt x="0" y="0"/>
                </a:moveTo>
                <a:lnTo>
                  <a:pt x="28784" y="0"/>
                </a:lnTo>
                <a:lnTo>
                  <a:pt x="28784" y="21600"/>
                </a:lnTo>
                <a:lnTo>
                  <a:pt x="0" y="21600"/>
                </a:lnTo>
                <a:close/>
              </a:path>
              <a:path fill="lightenLess" w="28784" h="21600">
                <a:moveTo>
                  <a:pt x="0" y="0"/>
                </a:moveTo>
                <a:lnTo>
                  <a:pt x="28784" y="0"/>
                </a:lnTo>
                <a:lnTo>
                  <a:pt x="27384" y="1400"/>
                </a:lnTo>
                <a:lnTo>
                  <a:pt x="1400" y="1400"/>
                </a:lnTo>
                <a:close/>
              </a:path>
              <a:path fill="darken" w="28784" h="21600">
                <a:moveTo>
                  <a:pt x="28784" y="0"/>
                </a:moveTo>
                <a:lnTo>
                  <a:pt x="28784" y="21600"/>
                </a:lnTo>
                <a:lnTo>
                  <a:pt x="27384" y="20200"/>
                </a:lnTo>
                <a:lnTo>
                  <a:pt x="27384" y="1400"/>
                </a:lnTo>
                <a:close/>
              </a:path>
              <a:path fill="darkenLess" w="28784" h="21600">
                <a:moveTo>
                  <a:pt x="28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4" y="20200"/>
                </a:lnTo>
                <a:close/>
              </a:path>
              <a:path fill="lighten" w="28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4" h="21600">
                <a:moveTo>
                  <a:pt x="7386" y="10800"/>
                </a:moveTo>
                <a:lnTo>
                  <a:pt x="21398" y="3794"/>
                </a:lnTo>
                <a:lnTo>
                  <a:pt x="21398" y="17806"/>
                </a:lnTo>
                <a:close/>
              </a:path>
            </a:pathLst>
          </a:custGeom>
          <a:solidFill>
            <a:srgbClr val="2da2bf"/>
          </a:solidFill>
          <a:ln w="1260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6" descr="b_2151_2011_03_28_12_08_39"/>
          <p:cNvPicPr/>
          <p:nvPr/>
        </p:nvPicPr>
        <p:blipFill>
          <a:blip r:embed="rId2">
            <a:lum contrast="12000"/>
          </a:blip>
          <a:srcRect l="0" t="2940" r="0" b="9476"/>
          <a:stretch/>
        </p:blipFill>
        <p:spPr>
          <a:xfrm>
            <a:off x="6588000" y="3789360"/>
            <a:ext cx="238608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Lucida Sans Unicode"/>
              </a:rPr>
              <a:t>Успехов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Lucida Sans Unicode"/>
              </a:rPr>
              <a:t>в написании диплома!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3" name="Picture 5" descr="5zPrns5aPuelNay6umoW"/>
          <p:cNvPicPr/>
          <p:nvPr/>
        </p:nvPicPr>
        <p:blipFill>
          <a:blip r:embed="rId1"/>
          <a:stretch/>
        </p:blipFill>
        <p:spPr>
          <a:xfrm>
            <a:off x="2828880" y="3633840"/>
            <a:ext cx="64483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21:45:43Z</dcterms:created>
  <dc:creator>Lesha&amp;Tania</dc:creator>
  <dc:description/>
  <dc:language>en-US</dc:language>
  <cp:lastModifiedBy>Admin</cp:lastModifiedBy>
  <dcterms:modified xsi:type="dcterms:W3CDTF">2012-12-08T13:08:56Z</dcterms:modified>
  <cp:revision>37</cp:revision>
  <dc:subject/>
  <dc:title>Методические рекомендации по выполнению экономической части дипломного проекта</dc:title>
</cp:coreProperties>
</file>