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9508-6BF2-447A-87E8-7D1BEA3CA8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52A-CF5F-4438-B5FC-3758056420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B51-323D-4E03-A62C-E3A0287F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B72-AFCF-4047-9A94-CDD5C48F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C404D-5664-450B-AD1C-9E2F0D63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34883-7210-4267-A72C-F1FEC45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E9FD6-AB7F-4353-86D2-60BF2F69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CCFE5-F701-4F34-848C-001608D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436C1-FB08-4174-83CF-5375002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81A0-3D5B-4A78-B515-5AD752EB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A1EF5-1655-4400-BA3A-632640E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EF3D7-3198-40F2-A512-6316D134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F74C5-D2E2-4555-82F2-8726DA32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F917F-172A-4150-BDE4-1C95214C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BD1-8E46-41E3-B52C-4911C997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A7B0C-D88C-4F68-93B5-6C645BF3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A9FCF-D1F8-4D60-95A9-681144BF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F7B11-7D46-4C3C-8362-B20D54F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175EE-3188-487C-ABBC-CC4B6454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6706A-6B58-40A4-8DF7-389BBEE0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C05BE-D7AA-41D8-A057-3208FCB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B867E-5F07-48C5-A2FD-8BE49CC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C19C1-5869-452D-8BEA-C112AFE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78C27-F4EF-460B-A82F-AAD0072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39952-2557-475D-8263-04C0CBC0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2EC-3E55-4168-81E4-A6D7C1FF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5D6E9-08C0-4701-87C3-3E00F692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0C844-F0A2-4154-A855-905E497A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BF22A-33F9-4087-A8E7-EE8DC8CD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B3FF-1E87-40CE-9631-1CA30B7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9CC6A-860F-4683-8C89-2E707C6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A981-AC6B-4AD7-AFCE-578BD5AB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60535-B6BE-4F90-BD3A-E3DF960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046C-0E47-48AF-B893-4536CFB3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BD177-C874-4F0D-A4DF-FAD54EB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188AE-698C-49B1-8AEE-6910B1E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EBE-8951-4330-9A5F-7AE26B68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CA49F-7C13-420D-820B-A08461E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A4C42-1431-4423-A0CE-469202B9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354E2-DC1F-4096-9500-8B4D4E64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59B79-E26C-4736-B58B-7E504407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F4993-8787-45DF-B593-49B59C9A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8310B-802A-442A-B458-210F88F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B07A7-0467-4F3E-B9BB-40F16B62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BFB8-2AD3-43AC-8457-C4267F5C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7E6FC-2976-4FB0-B357-6317D53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C2C3-848D-4AF9-B312-9AFABDE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393-AED7-4752-B9A1-006DD2A2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348BF-0921-4F19-A729-D01F604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BDEEB-1611-4259-B348-89917AE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AD86C-608A-4C44-AC45-74C3D4E4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1C1C6-71B5-473F-8B1E-0EAED9D3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EF81E-9881-4247-A2CA-A6ADE61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7A67-C8FE-4FAE-A0C0-E90305A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CC6D-73EC-401E-9846-AFEDFEF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97F-3F42-4002-8AAC-939FDE1C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B95A-05C8-451F-8B8D-E68F83D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CC11-C735-45DB-80CD-6918EE2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7FC-C745-4882-BD38-B5E8104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E98A-C501-4B51-A6FB-E2F6EF2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29C5-CB29-4EBD-850D-1BB8662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4F0D-CF4F-45C9-BEB5-89506FFC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D29F-1F15-4D0C-BF4A-F1626A79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A127-0DC6-45D0-A211-501A6F40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9AA5-DA34-43D7-8850-A467C62A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4ED3-75B1-479F-8B65-F637B5C0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3ABC-C69C-47F9-951F-EAB11AE5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E296-CF2B-4C62-ABAE-26AEDB79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1B43-94B5-45D5-8C1E-65E1EEFA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1D4-EAB2-4486-90B9-794B06A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3837-AADF-47B4-91B3-5176E5F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1ABF-7BEA-4FD2-A427-64E2251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433A-A9C0-4CDA-8294-05A09E3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A48B-B8F5-44DE-A376-F46796E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FBD0-6F2E-4257-BB7D-E263006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0755-5DA2-44AC-A6FF-E71BD799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403BA-B23F-40F8-9A5B-9F298676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85EA-6B43-4EF3-B946-EE5738E3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84DD-B9E8-4500-927B-0EB59C8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BD4D-2758-4522-873C-2D62207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FBD-F507-41D4-BB55-D38D820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49C6-F0BE-42D9-90EA-C126773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01FF-604A-4288-B463-4D76DE4A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D10A-2368-445A-983A-C2D74C23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8C6E-856F-407C-BBAD-FC28FC4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19FC-7D4E-48FE-BB8F-74E268D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3BE8-8732-47C9-BB54-FE861F74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D770-4661-4527-AA35-A0F908F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A191-72E6-49E7-B91B-274184F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9808-EAD1-4A9C-8C9C-FFBD5C91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2E11-6879-4A5E-A749-14ECC69B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F96-D1E5-44A1-A045-F6984E22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46900-4183-4869-B40C-92D3745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0147-8985-487D-9338-950A042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5377-1C8A-46AA-B299-BFE2C12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34EB-CB7F-4BC5-8544-E546A4E4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BA78-880B-47F6-A202-2976FAD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7213-F30E-4719-933F-B0AF6A0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4C5D-7AC2-46AB-AC6C-6C3E881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B116-20FA-4EA4-9286-90E060C0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F0F9-446C-4007-9EC1-EF267118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5BF1-A2A0-4B3E-BB65-A9FCEB8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6F6-207C-4F70-87D5-0DB4375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3B6B-1A1C-4BC7-9E59-E133BF50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FFE1-6651-46E9-B978-9A3F7558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41D8-5283-4450-8FC2-A0B5F01D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E6366-AFA7-4A6E-8A92-CEA5E00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789C-7841-466E-A8F0-56C53404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7587-5109-4945-8582-6361428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9746C-A3CB-476E-AC34-8CE0C452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1DC9-73BC-45A4-8C6D-F5DCC08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D70A-E27E-4926-B759-6A9C0F9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71AB-54F2-47DC-BEFE-00366D9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E19-2D8F-403A-8EDF-06F5E38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0F45-8DF9-411F-8225-750FAA5F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F9423-95CA-415F-A491-04C22BF2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6FA1-7142-4445-A12C-348D9B74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A42E-4B38-48E1-8350-F30505D2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E8FC-1A6A-4346-8361-2903C4DC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3D766-6AA4-4355-9499-23F86A21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CEC2-CA9E-44E1-B398-6126986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753C-C37B-43D3-9E08-176D714D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966F5-02ED-4B07-A08E-A410126F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42FFD-349B-4990-A262-A1742CB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83E-443E-4112-9C85-9CEC337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8F1D-7071-46B6-8A62-6247D94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BB765-34E3-4843-9B43-828657F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057B-F420-43B1-825B-C0F56A4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3A1C-0B29-47F9-9450-1F8DC3A3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1FCA-F898-48A6-A170-F32C26B6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AEBBC-4EA0-4FCC-B3BB-6AFF1E7E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EE33-BD48-4B9F-848E-A91D8598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B874-AB97-4687-83A6-213BDF6E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E327C-524B-422A-818C-DE3A66C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578B4-F747-4575-8D97-2D73C14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970-6336-4E5A-8598-69012A4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82C5-93E7-4B27-A638-B3A0992E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9FEF-3D3D-4703-AC7A-17EDE55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4FC4-5CEA-49EA-803F-8D9FB71E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F2659-F832-4572-888F-F05AFB9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597B-007D-450E-89DF-74AE3997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D053-7D78-4EBE-8F0B-AFB9002B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F4278-9FBB-4CBE-A540-6BAE85AC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CC1A5-161A-4A4D-9731-67A89886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E4A6A-DC2F-40F6-8F81-5ED58B86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071B2-F0D1-45B8-8211-0E0A2D9A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34D-0601-43ED-A819-E720086733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0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9534-B05C-4973-8517-DA4B84CCAD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1863-EF05-44DA-BB4D-C360034D07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153-4B2E-4916-8363-F35AC03A38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637F-8C53-4715-9200-5B83E00DB6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4F8-38E3-4AEE-8981-91343554E4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8D8-1795-455F-8855-DB65E33A69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A3A-FC79-47D4-8ECE-D8903E07B7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C04-1E1B-4DE4-AF10-D802BF79C4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1F1-D782-48F9-B2FD-44891BD23D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871-A919-4BA3-8ED7-BD131B43BE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3713-00BD-484A-B697-BABB8289C4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8021880" cy="49802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924360" y="5950080"/>
            <a:ext cx="507528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94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Составитель: Львова Т.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900000" y="2491920"/>
            <a:ext cx="7491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ать, что затраты, связанные с выполнением дипломного проекта, могут быть покрыты доходами от реализации  созданного программного продукт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Багетная рамка 1"/>
          <p:cNvSpPr/>
          <p:nvPr/>
        </p:nvSpPr>
        <p:spPr>
          <a:xfrm>
            <a:off x="1042920" y="549360"/>
            <a:ext cx="7274160" cy="1584360"/>
          </a:xfrm>
          <a:prstGeom prst="beve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ль экономической части дипломного про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C:\Program Files\Microsoft Office\MEDIA\CAGCAT10\j0149481.wmf"/>
          <p:cNvPicPr/>
          <p:nvPr/>
        </p:nvPicPr>
        <p:blipFill>
          <a:blip r:embed="rId1"/>
          <a:stretch/>
        </p:blipFill>
        <p:spPr>
          <a:xfrm>
            <a:off x="6875640" y="4797360"/>
            <a:ext cx="205236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00000" y="1773360"/>
            <a:ext cx="7994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анализ и оценка существующих аналогичных программных продуктов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определение  конкурентоспособности и целесообразности использования созданного программного продукт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roadway"/>
              </a:rPr>
              <a:t>расчет  экономической эффективности, полученной при возможном использовании программного продукт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969840" y="0"/>
            <a:ext cx="7448760" cy="2127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444"/>
          <p:cNvPicPr/>
          <p:nvPr/>
        </p:nvPicPr>
        <p:blipFill>
          <a:blip r:embed="rId2"/>
          <a:stretch/>
        </p:blipFill>
        <p:spPr>
          <a:xfrm>
            <a:off x="6546960" y="5016600"/>
            <a:ext cx="2865240" cy="2122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Багетная рамка 3"/>
          <p:cNvSpPr/>
          <p:nvPr/>
        </p:nvSpPr>
        <p:spPr>
          <a:xfrm>
            <a:off x="2340000" y="404640"/>
            <a:ext cx="4248000" cy="1224000"/>
          </a:xfrm>
          <a:prstGeom prst="beve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Экономическая часть дипломного проек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Скругленный прямоугольник 5"/>
          <p:cNvSpPr/>
          <p:nvPr/>
        </p:nvSpPr>
        <p:spPr>
          <a:xfrm>
            <a:off x="5651640" y="2492280"/>
            <a:ext cx="3241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счет затрат по созданному программному продук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Скругленный прямоугольник 7"/>
          <p:cNvSpPr/>
          <p:nvPr/>
        </p:nvSpPr>
        <p:spPr>
          <a:xfrm>
            <a:off x="324000" y="2492280"/>
            <a:ext cx="324000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Организационно-экономическое  обоснование прое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Скругленный прямоугольник 8"/>
          <p:cNvSpPr/>
          <p:nvPr/>
        </p:nvSpPr>
        <p:spPr>
          <a:xfrm>
            <a:off x="2627280" y="4292640"/>
            <a:ext cx="3457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асчет экономического эффекта от использования про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Стрелка вправо 12"/>
          <p:cNvSpPr/>
          <p:nvPr/>
        </p:nvSpPr>
        <p:spPr>
          <a:xfrm rot="5400000">
            <a:off x="3056040" y="2567520"/>
            <a:ext cx="266400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Стрелка углом 17"/>
          <p:cNvSpPr/>
          <p:nvPr/>
        </p:nvSpPr>
        <p:spPr>
          <a:xfrm rot="5400000">
            <a:off x="6315480" y="1180080"/>
            <a:ext cx="1552680" cy="1008360"/>
          </a:xfrm>
          <a:custGeom>
            <a:avLst/>
            <a:gdLst/>
            <a:ahLst/>
            <a:rect l="l" t="t" r="r" b="b"/>
            <a:pathLst>
              <a:path w="1552575" h="1008063">
                <a:moveTo>
                  <a:pt x="0" y="1008063"/>
                </a:moveTo>
                <a:lnTo>
                  <a:pt x="0" y="708759"/>
                </a:lnTo>
                <a:cubicBezTo>
                  <a:pt x="0" y="450037"/>
                  <a:pt x="209735" y="240302"/>
                  <a:pt x="468457" y="240302"/>
                </a:cubicBezTo>
                <a:lnTo>
                  <a:pt x="1300559" y="240302"/>
                </a:lnTo>
                <a:lnTo>
                  <a:pt x="1300559" y="0"/>
                </a:lnTo>
                <a:lnTo>
                  <a:pt x="1552575" y="366310"/>
                </a:lnTo>
                <a:lnTo>
                  <a:pt x="1300559" y="732620"/>
                </a:lnTo>
                <a:lnTo>
                  <a:pt x="1300559" y="492318"/>
                </a:lnTo>
                <a:lnTo>
                  <a:pt x="468457" y="492318"/>
                </a:lnTo>
                <a:cubicBezTo>
                  <a:pt x="348920" y="492318"/>
                  <a:pt x="252016" y="589222"/>
                  <a:pt x="252016" y="708759"/>
                </a:cubicBezTo>
                <a:lnTo>
                  <a:pt x="252016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2fb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Стрелка углом 19"/>
          <p:cNvSpPr/>
          <p:nvPr/>
        </p:nvSpPr>
        <p:spPr>
          <a:xfrm flipV="1" rot="5400000">
            <a:off x="1127880" y="1255320"/>
            <a:ext cx="1560600" cy="863640"/>
          </a:xfrm>
          <a:custGeom>
            <a:avLst/>
            <a:gdLst/>
            <a:ahLst/>
            <a:rect l="l" t="t" r="r" b="b"/>
            <a:pathLst>
              <a:path w="1560513" h="863600">
                <a:moveTo>
                  <a:pt x="0" y="863600"/>
                </a:moveTo>
                <a:lnTo>
                  <a:pt x="0" y="607189"/>
                </a:lnTo>
                <a:cubicBezTo>
                  <a:pt x="0" y="385544"/>
                  <a:pt x="179679" y="205865"/>
                  <a:pt x="401324" y="205865"/>
                </a:cubicBezTo>
                <a:lnTo>
                  <a:pt x="1344613" y="205865"/>
                </a:lnTo>
                <a:lnTo>
                  <a:pt x="1344613" y="0"/>
                </a:lnTo>
                <a:lnTo>
                  <a:pt x="1560513" y="313815"/>
                </a:lnTo>
                <a:lnTo>
                  <a:pt x="1344613" y="627630"/>
                </a:lnTo>
                <a:lnTo>
                  <a:pt x="1344613" y="421765"/>
                </a:lnTo>
                <a:lnTo>
                  <a:pt x="401324" y="421765"/>
                </a:lnTo>
                <a:cubicBezTo>
                  <a:pt x="298917" y="421765"/>
                  <a:pt x="215900" y="504782"/>
                  <a:pt x="215900" y="607189"/>
                </a:cubicBezTo>
                <a:lnTo>
                  <a:pt x="215900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2fb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Управляющая кнопка: назад 8">
            <a:hlinkClick r:id="" action="ppaction://hlinkshowjump?jump=lastslide"/>
          </p:cNvPr>
          <p:cNvSpPr/>
          <p:nvPr/>
        </p:nvSpPr>
        <p:spPr>
          <a:xfrm>
            <a:off x="1081080" y="562464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116000" y="1915920"/>
            <a:ext cx="7491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ление круга потребителей созданного программного продукт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конкурентных программных продукт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3" name="Управляющая кнопка: назад 1"/>
          <p:cNvSpPr/>
          <p:nvPr/>
        </p:nvSpPr>
        <p:spPr>
          <a:xfrm>
            <a:off x="140328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55640" y="1844640"/>
            <a:ext cx="7491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ебестоимость – сумма все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затрат при создании программного продукт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822240" y="476280"/>
            <a:ext cx="7516800" cy="1328760"/>
          </a:xfrm>
          <a:prstGeom prst="rect">
            <a:avLst/>
          </a:prstGeom>
          <a:ln w="0">
            <a:noFill/>
          </a:ln>
        </p:spPr>
      </p:pic>
      <p:sp>
        <p:nvSpPr>
          <p:cNvPr id="586" name="Управляющая кнопка: назад 1"/>
          <p:cNvSpPr/>
          <p:nvPr/>
        </p:nvSpPr>
        <p:spPr>
          <a:xfrm>
            <a:off x="1403280" y="5589720"/>
            <a:ext cx="792360" cy="57600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708" h="21600">
                <a:moveTo>
                  <a:pt x="0" y="0"/>
                </a:moveTo>
                <a:lnTo>
                  <a:pt x="29708" y="0"/>
                </a:lnTo>
                <a:lnTo>
                  <a:pt x="29708" y="21600"/>
                </a:lnTo>
                <a:lnTo>
                  <a:pt x="0" y="21600"/>
                </a:lnTo>
                <a:close/>
              </a:path>
              <a:path fill="lightenLess" w="29708" h="21600">
                <a:moveTo>
                  <a:pt x="0" y="0"/>
                </a:moveTo>
                <a:lnTo>
                  <a:pt x="29708" y="0"/>
                </a:lnTo>
                <a:lnTo>
                  <a:pt x="28308" y="1400"/>
                </a:lnTo>
                <a:lnTo>
                  <a:pt x="1400" y="1400"/>
                </a:lnTo>
                <a:close/>
              </a:path>
              <a:path fill="darken" w="29708" h="21600">
                <a:moveTo>
                  <a:pt x="29708" y="0"/>
                </a:moveTo>
                <a:lnTo>
                  <a:pt x="29708" y="21600"/>
                </a:lnTo>
                <a:lnTo>
                  <a:pt x="28308" y="20200"/>
                </a:lnTo>
                <a:lnTo>
                  <a:pt x="28308" y="1400"/>
                </a:lnTo>
                <a:close/>
              </a:path>
              <a:path fill="darkenLess" w="29708" h="21600">
                <a:moveTo>
                  <a:pt x="29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8" y="20200"/>
                </a:lnTo>
                <a:close/>
              </a:path>
              <a:path fill="lighten" w="29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8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7" descr="doc_832_04"/>
          <p:cNvPicPr/>
          <p:nvPr/>
        </p:nvPicPr>
        <p:blipFill>
          <a:blip r:embed="rId2"/>
          <a:stretch/>
        </p:blipFill>
        <p:spPr>
          <a:xfrm>
            <a:off x="5651640" y="3355920"/>
            <a:ext cx="2770200" cy="2770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900000" y="2781360"/>
            <a:ext cx="749160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ономический эффект = Прибыль= Затраты – Дохо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015400" cy="1616040"/>
          </a:xfrm>
          <a:prstGeom prst="rect">
            <a:avLst/>
          </a:prstGeom>
          <a:ln w="0">
            <a:noFill/>
          </a:ln>
        </p:spPr>
      </p:pic>
      <p:sp>
        <p:nvSpPr>
          <p:cNvPr id="590" name="Управляющая кнопка: назад 1"/>
          <p:cNvSpPr/>
          <p:nvPr/>
        </p:nvSpPr>
        <p:spPr>
          <a:xfrm>
            <a:off x="219564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10800"/>
                </a:moveTo>
                <a:lnTo>
                  <a:pt x="21398" y="3794"/>
                </a:lnTo>
                <a:lnTo>
                  <a:pt x="21398" y="17806"/>
                </a:lnTo>
                <a:close/>
              </a:path>
            </a:pathLst>
          </a:custGeom>
          <a:solidFill>
            <a:srgbClr val="2da2bf"/>
          </a:solidFill>
          <a:ln w="1260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6" descr="b_2151_2011_03_28_12_08_39"/>
          <p:cNvPicPr/>
          <p:nvPr/>
        </p:nvPicPr>
        <p:blipFill>
          <a:blip r:embed="rId2">
            <a:lum contrast="12000"/>
          </a:blip>
          <a:srcRect l="0" t="2940" r="0" b="9476"/>
          <a:stretch/>
        </p:blipFill>
        <p:spPr>
          <a:xfrm>
            <a:off x="6588000" y="3789360"/>
            <a:ext cx="238608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Lucida Sans Unicode"/>
              </a:rPr>
              <a:t>Успехов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Lucida Sans Unicode"/>
              </a:rPr>
              <a:t>в написании диплома!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3" name="Picture 5" descr="5zPrns5aPuelNay6umoW"/>
          <p:cNvPicPr/>
          <p:nvPr/>
        </p:nvPicPr>
        <p:blipFill>
          <a:blip r:embed="rId1"/>
          <a:stretch/>
        </p:blipFill>
        <p:spPr>
          <a:xfrm>
            <a:off x="2828880" y="3633840"/>
            <a:ext cx="64483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21:45:43Z</dcterms:created>
  <dc:creator>Lesha&amp;Tania</dc:creator>
  <dc:description/>
  <dc:language>en-US</dc:language>
  <cp:lastModifiedBy>Admin</cp:lastModifiedBy>
  <dcterms:modified xsi:type="dcterms:W3CDTF">2012-12-08T13:08:56Z</dcterms:modified>
  <cp:revision>37</cp:revision>
  <dc:subject/>
  <dc:title>Методические рекомендации по выполнению экономической части дипломного проекта</dc:title>
</cp:coreProperties>
</file>